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4689-5CA0-4DEA-8B25-582ED697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5311-623E-4482-9770-B9ED4035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AE9F-5371-4830-B0CB-0970B476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9264-EB85-454C-91F1-201B9FE2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B442-A6CA-4E4B-87E0-56399BF4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3CD3-574C-4200-949C-889687D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DDFB-FD63-479F-B5CC-9B5B0825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9956-E11A-4EE4-A40F-6F0F61A3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DD15-5C06-4872-A592-D4B6EE6B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AA40-2C8F-466E-8CDB-9EF84409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8CB9-A449-4DC6-8CA8-FA76CDEC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6E9AC-D992-48E4-B996-5C5CD377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8F8D-4310-42C6-B3B1-58F35A96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D508-5E09-455A-A3A0-9FAAD2D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7287-4283-4529-BD8E-9BD26730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DD49-8900-4206-AF0C-685D3167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51DF-7ED4-4B60-87EA-97C17A7A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6419-902B-4232-946F-FE2E7645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002E-5DAF-4906-9686-9210F1F1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31C0-FADD-40C4-89D3-8FF306A3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424C-E09D-4D2D-A83A-D2C5AB24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D078-741C-4E81-8CB1-B88D54E8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0506-A2DB-40FB-9835-98DF6617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32B3-44AA-49D7-BBCA-34DFF42B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791E-BB20-4DE2-A563-2AED1630B8A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CFC0-BBDC-43CC-9BB8-1880BEB0931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logistics"/>
          <p:cNvPicPr/>
          <p:nvPr/>
        </p:nvPicPr>
        <p:blipFill>
          <a:blip r:embed="rId1"/>
          <a:stretch/>
        </p:blipFill>
        <p:spPr>
          <a:xfrm>
            <a:off x="2786040" y="20001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6"/>
          <p:cNvSpPr/>
          <p:nvPr/>
        </p:nvSpPr>
        <p:spPr>
          <a:xfrm>
            <a:off x="928800" y="78588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Destaques de Sucesso e Fracasso </a:t>
            </a:r>
            <a:br>
              <a:rPr sz="3600"/>
            </a:b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	</a:t>
            </a: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	</a:t>
            </a: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em Estratégia 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7"/>
          <p:cNvSpPr/>
          <p:nvPr/>
        </p:nvSpPr>
        <p:spPr>
          <a:xfrm>
            <a:off x="428760" y="585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Breno Fabre de Luca – RA. 15511-9 – 7º Semestre - A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casas"/>
          <p:cNvPicPr/>
          <p:nvPr/>
        </p:nvPicPr>
        <p:blipFill>
          <a:blip r:embed="rId1"/>
          <a:stretch/>
        </p:blipFill>
        <p:spPr>
          <a:xfrm>
            <a:off x="5292720" y="260280"/>
            <a:ext cx="349236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39528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Tahoma"/>
              </a:rPr>
              <a:t>CASAS BA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0" y="4294080"/>
            <a:ext cx="878508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A Casas Bahia, tem um sistema de Logística muito eficiente. Seus produtos são armazenados  em depositos, um deles em Jundiaí, o 2º maior do mundo com 300 mil m² construidos, que são situados em Postos de Distribuição bem localizados, alem de Entrep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Fr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Para garantir a entrega dos produtos aos clientes no prazo máximo de 48 horas, a Casas Bahia não terceiriza sua frota. A rede conta com mais de 2500 veículos pes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Natura-logo"/>
          <p:cNvPicPr/>
          <p:nvPr/>
        </p:nvPicPr>
        <p:blipFill>
          <a:blip r:embed="rId1"/>
          <a:stretch/>
        </p:blipFill>
        <p:spPr>
          <a:xfrm>
            <a:off x="5724360" y="333360"/>
            <a:ext cx="3203640" cy="1727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395280" y="1125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Comic Sans MS"/>
              </a:rPr>
              <a:t>N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68360" y="2205000"/>
            <a:ext cx="8424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A Natura tem de 20 a 30 mil pedidos recebidos por dia, cerca de 98% deles, são entregues no pr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Isso devido a uma excelente política de logística, desenvolvida especialmente para melhor atender as necessidades do cliente N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Os produtos estão em um Armazém Vertical, mecanizado, contando com 8 funcionários dedicados à seu funcionamento, aproximadamente 52.000 posições, e um tempo médio de reposição de 2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Resumidamente, o sistema logístico da Natura, funciona da seguinte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O pedido chega para uma central, de onde é mandado para a produção, segue para a separação, formação de carga, Faturamento, vai para a Transporta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A capacidade máxima é de 42 mil caixas por dia, atendendo mais de 5 mil municip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americanas"/>
          <p:cNvPicPr/>
          <p:nvPr/>
        </p:nvPicPr>
        <p:blipFill>
          <a:blip r:embed="rId1"/>
          <a:stretch/>
        </p:blipFill>
        <p:spPr>
          <a:xfrm>
            <a:off x="5715000" y="214200"/>
            <a:ext cx="3036960" cy="1873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00040" y="6429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Comic Sans MS"/>
              </a:rPr>
              <a:t>LOJAS AMERICA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57120" y="2195640"/>
            <a:ext cx="8425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Arial"/>
              </a:rPr>
              <a:t>O americanas.com é o maior site de comercio eletrônico do país e já alcançou índices de excelência nas entregas, tendo um índice de 98% de regularidade. Sendo assim, o melhor site de compras d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Arial"/>
              </a:rPr>
              <a:t>Com pouco mais de dois anos de operação, a Americanas.com desenvolveu um modelo próprio de logística, baseado na sofisticação tecnológica, integração de processos e no relacionamento com os parceiros de transporte. A empresa vem se estruturando para um crescimento planej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Arial"/>
              </a:rPr>
              <a:t>Há um ano, por exemplo, a loja virtual entregava 22 mil produtos por mês. “Hoje entregamos mensalmente mais de 55 mil produtos com qualidade e rapidez exigidas pelas compras on-line”, comemora o diretor de logística da Americanas.c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Arial"/>
              </a:rPr>
              <a:t>Os produtos comprados na Americanas.com são retirados todos os dias em 35 viagens ao centro de distribuição da empresa, localizado em Alphaville (São Paulo). A loja virtual realiza entregas em todo o Brasil e em mais 220 países como Japão, Estados Unidos, Alemanha 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peedy-telefonica-sem-provedor"/>
          <p:cNvPicPr/>
          <p:nvPr/>
        </p:nvPicPr>
        <p:blipFill>
          <a:blip r:embed="rId1"/>
          <a:stretch/>
        </p:blipFill>
        <p:spPr>
          <a:xfrm>
            <a:off x="6286680" y="571680"/>
            <a:ext cx="2428560" cy="138744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4"/>
          <p:cNvSpPr/>
          <p:nvPr/>
        </p:nvSpPr>
        <p:spPr>
          <a:xfrm>
            <a:off x="428760" y="85716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Comic Sans MS"/>
              </a:rPr>
              <a:t>INTERNET BANDA LARGA - SPE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5"/>
          <p:cNvSpPr/>
          <p:nvPr/>
        </p:nvSpPr>
        <p:spPr>
          <a:xfrm>
            <a:off x="214200" y="2357280"/>
            <a:ext cx="85010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Líder de reclamações do ranking geral do PRO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Com quase 37% de todas as reclamações regist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Os problemas mais freqüentes: valor e velocidade ofertados diferentes do que é lançado na fatura; indisponibilidade técnica; impedir o cancelamento do plano; oferta de upgrade sem o devido cumprimento (aumento de velocidade sem disponibilidade do serviç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Segundo o Comitê Gestor da Internet no Brasil, os serviços prestados pela Telefônica chegaram a tal grau de deterioração pelos seguintes f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- Erros no projeto técnico; Terceirização inadequada; Compras de equipamentos de uma qualidade duvidos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5e"/>
                </a:solidFill>
                <a:latin typeface="Comic Sans MS"/>
              </a:rPr>
              <a:t>- Falta de qualificação do corpo técnico; A sustentação da Telefônica Espanha, deixando de investir no Brasil para investir na Europa; Infra-estrutura ultrapas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laro"/>
          <p:cNvPicPr/>
          <p:nvPr/>
        </p:nvPicPr>
        <p:blipFill>
          <a:blip r:embed="rId1"/>
          <a:stretch/>
        </p:blipFill>
        <p:spPr>
          <a:xfrm>
            <a:off x="6357960" y="260280"/>
            <a:ext cx="2319480" cy="2025720"/>
          </a:xfrm>
          <a:prstGeom prst="rect">
            <a:avLst/>
          </a:prstGeom>
          <a:ln w="0">
            <a:noFill/>
          </a:ln>
        </p:spPr>
      </p:pic>
      <p:sp>
        <p:nvSpPr>
          <p:cNvPr id="122" name="CaixaDeTexto 4"/>
          <p:cNvSpPr/>
          <p:nvPr/>
        </p:nvSpPr>
        <p:spPr>
          <a:xfrm>
            <a:off x="357120" y="85716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00005e"/>
                </a:solidFill>
                <a:uFillTx/>
                <a:latin typeface="Comic Sans MS"/>
              </a:rPr>
              <a:t>OPERADORA DORA MÓVEL - CLA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ixaDeTexto 5"/>
          <p:cNvSpPr/>
          <p:nvPr/>
        </p:nvSpPr>
        <p:spPr>
          <a:xfrm>
            <a:off x="285840" y="250020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Ultimamente a empresa tem sido alvo de várias reclamações referente a instabilidades na rede e baixa velocidade de conexão na tecnologia 3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Nos últimos meses grande parte de seus usuários constantemente fizeram queixas sobre o péssimo atendimento que lhe são pr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Invasão da privacidade do consumidor:  Um problema técnico na operadora fez com que mensagens pessoais de usuários pudessem ser acessadas, durante duas horas e meia, por qualquer pessoa que ligasse para celulares desligados ou que caíam na secret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Péssima qualidade de atendimento ao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Falha na prestação de serviço de Internet Banda Larga 3G. A Claro teve que pagar um valor de R$ 1 mil, por danos mor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PromoesTIM"/>
          <p:cNvPicPr/>
          <p:nvPr/>
        </p:nvPicPr>
        <p:blipFill>
          <a:blip r:embed="rId1"/>
          <a:stretch/>
        </p:blipFill>
        <p:spPr>
          <a:xfrm>
            <a:off x="6286680" y="260280"/>
            <a:ext cx="2406600" cy="1739880"/>
          </a:xfrm>
          <a:prstGeom prst="rect">
            <a:avLst/>
          </a:prstGeom>
          <a:ln w="0">
            <a:noFill/>
          </a:ln>
        </p:spPr>
      </p:pic>
      <p:sp>
        <p:nvSpPr>
          <p:cNvPr id="125" name="CaixaDeTexto 4"/>
          <p:cNvSpPr/>
          <p:nvPr/>
        </p:nvSpPr>
        <p:spPr>
          <a:xfrm>
            <a:off x="285840" y="78588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OPERADORA MÓVEL - T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6"/>
          <p:cNvSpPr/>
          <p:nvPr/>
        </p:nvSpPr>
        <p:spPr>
          <a:xfrm>
            <a:off x="214200" y="292896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5e"/>
                </a:solidFill>
                <a:latin typeface="Comic Sans MS"/>
              </a:rPr>
              <a:t>De acordo com o site Reclame Aqui, a Tim em 2008 recebeu avaliação de "empresa não recomendada" e em 2009 como empresa "ruim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5e"/>
                </a:solidFill>
                <a:latin typeface="Comic Sans MS"/>
              </a:rPr>
              <a:t>Em janeiro de 2009, a empresa foi multada pelo Procon em R$ 1,78 milhão devido o corte das linhas telefônicas da Casa Civil e Casa Militar do Paraná</a:t>
            </a: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5e"/>
                </a:solidFill>
                <a:latin typeface="Comic Sans MS"/>
              </a:rPr>
              <a:t>Em 2009 também foi proibida de transmitir SMS com propaganda do serviço TimCafé para seus cl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5e"/>
                </a:solidFill>
                <a:latin typeface="Comic Sans MS"/>
              </a:rPr>
              <a:t>Em fevereiro de 2010 a operadora foi condenada a pagar R$ 12 mil a uma cliente por ostentar, durante 8 meses, a frase: "Catarina quer chorar ela tem um gatinho" na fatura de uma cliente em lugar de seu nome</a:t>
            </a: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logistics"/>
          <p:cNvPicPr/>
          <p:nvPr/>
        </p:nvPicPr>
        <p:blipFill>
          <a:blip r:embed="rId1"/>
          <a:stretch/>
        </p:blipFill>
        <p:spPr>
          <a:xfrm>
            <a:off x="5641920" y="214200"/>
            <a:ext cx="3502080" cy="2571840"/>
          </a:xfrm>
          <a:prstGeom prst="rect">
            <a:avLst/>
          </a:prstGeom>
          <a:ln w="0">
            <a:noFill/>
          </a:ln>
        </p:spPr>
      </p:pic>
      <p:sp>
        <p:nvSpPr>
          <p:cNvPr id="128" name="CaixaDeTexto 4"/>
          <p:cNvSpPr/>
          <p:nvPr/>
        </p:nvSpPr>
        <p:spPr>
          <a:xfrm>
            <a:off x="428760" y="85716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5e"/>
                </a:solidFill>
                <a:latin typeface="Comic Sans MS"/>
              </a:rPr>
              <a:t>ANALISE COMPARATI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5"/>
          <p:cNvSpPr/>
          <p:nvPr/>
        </p:nvSpPr>
        <p:spPr>
          <a:xfrm>
            <a:off x="214200" y="3714840"/>
            <a:ext cx="871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Pode-se observar claramente, que enquanto as de boa logística se preocupam muito com sua boa imagem, confiabilidade e satisfafação dos clientes, as de má qualidade, focam na lucratividade, como é o exemplo das operadoras de celular, que oferecem um péssimo serviço de logística, baixa qualidade dos serviç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5e"/>
                </a:solidFill>
                <a:latin typeface="Comic Sans MS"/>
              </a:rPr>
              <a:t>A logísca é um ponto fortíssimo a favor da organização, tendo uma boa logística, a empresa ganha a confiança de seus clientes, concequentemente, o aumento de vendas e do valor agregado a sua marca, se vinculada a uma boa im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8:29:21Z</dcterms:created>
  <dc:creator>silvanapsocial</dc:creator>
  <dc:description/>
  <dc:language>en-US</dc:language>
  <cp:lastModifiedBy>Usuario</cp:lastModifiedBy>
  <dcterms:modified xsi:type="dcterms:W3CDTF">2011-03-24T21:26:30Z</dcterms:modified>
  <cp:revision>7</cp:revision>
  <dc:subject/>
  <dc:title>Slide 1</dc:title>
</cp:coreProperties>
</file>